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ADD-8A8A-457D-8947-ECFAB56B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F18-99A9-4E7F-BA88-8A113C9E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9AB-8367-47F8-BF81-E76CEC93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827-A60D-4F1F-8B87-98B0AF23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8FF-F88F-4199-AF35-8B08226C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DD4C-7215-438F-990F-A9741D10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79D0-00B2-403D-B086-19C4366E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9AC-5AA6-4718-95CF-0D538110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793-9BFD-40D4-A9A4-7A7D3CDD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7B2-0367-4E65-8A69-A1F8B8A2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BFE-0012-4105-B4C7-7FDE6608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9605-8A1B-4888-91B0-E9F4E239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4E0A-7CE8-42EE-8911-2933089708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828720" y="171360"/>
            <a:ext cx="7772400" cy="25718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2357280" y="2459160"/>
            <a:ext cx="4429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festival.1september.ru/articles/519398/img1.jpg"/>
          <p:cNvPicPr/>
          <p:nvPr/>
        </p:nvPicPr>
        <p:blipFill>
          <a:blip r:embed="rId2"/>
          <a:stretch/>
        </p:blipFill>
        <p:spPr>
          <a:xfrm>
            <a:off x="2828880" y="2835360"/>
            <a:ext cx="3816360" cy="402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Деление окружности на 2  </a:t>
            </a:r>
            <a:br>
              <a:rPr sz="4400"/>
            </a:b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    равные ча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разделить круг на две одинаковые части достаточно провести диаметр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611280" y="3179880"/>
            <a:ext cx="1584360" cy="1728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2998800" y="3179880"/>
            <a:ext cx="1501920" cy="1728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9"/>
          <p:cNvSpPr/>
          <p:nvPr/>
        </p:nvSpPr>
        <p:spPr>
          <a:xfrm>
            <a:off x="2998800" y="4043520"/>
            <a:ext cx="15019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4" descr="сканирование0001.jpg"/>
          <p:cNvPicPr/>
          <p:nvPr/>
        </p:nvPicPr>
        <p:blipFill>
          <a:blip r:embed="rId2"/>
          <a:stretch/>
        </p:blipFill>
        <p:spPr>
          <a:xfrm>
            <a:off x="2120760" y="2206800"/>
            <a:ext cx="4035600" cy="3743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714240" y="1428840"/>
            <a:ext cx="79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сти с помощью чертежного угольника два диаметра с прямым углом (занятие за 17-18 ноября) отметить на окружности  точки 1. 2. 3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готовление ребристого ш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341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 рисунок готового ребристого шара. Какие фигуры ипользованы для его изготовления? (круг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Начерти на листе цветной бумаги 4 круга радиусом 3 см и проведи в каждом диаметр. Все линии проводим на белой стороне лис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ырежи круги. Вырезая помни ,что: линии должны оставаться на вырезаемых деталях; бумагу следует поворачивать по часовой стрелк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аждый полукруг назови буквой как показано на рисунк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6" descr=""/>
          <p:cNvPicPr/>
          <p:nvPr/>
        </p:nvPicPr>
        <p:blipFill>
          <a:blip r:embed="rId1"/>
          <a:stretch/>
        </p:blipFill>
        <p:spPr>
          <a:xfrm>
            <a:off x="189000" y="5084640"/>
            <a:ext cx="7851600" cy="177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Каждый круг перегни по диаметр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Полукруги сложи одинаковыми буквами друг к другу и склей их .При этом не забудь вклеить нить, чтобы шар можно было повеси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Если тоже самое сделать с бОльшим количеством кругов,то шар будет смотреться пышне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46200" y="4221000"/>
            <a:ext cx="7851600" cy="188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0:28:22Z</dcterms:created>
  <dc:creator>Admin</dc:creator>
  <dc:description/>
  <dc:language>en-US</dc:language>
  <cp:lastModifiedBy>Учитель</cp:lastModifiedBy>
  <dcterms:modified xsi:type="dcterms:W3CDTF">2020-12-09T09:07:40Z</dcterms:modified>
  <cp:revision>34</cp:revision>
  <dc:subject/>
  <dc:title>Деление окружности</dc:title>
</cp:coreProperties>
</file>